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5ABE-FF5D-4D9B-BCBD-D02CC8F71C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49EA-E8FF-4E39-82D7-5B95E3FB2C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3D40-AA56-48C7-BF86-9E70E48266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57DE-7D45-4AEF-AF2C-4B6FCF201D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0B95-6AB5-43DE-B6F5-B73EFB951B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EAFB-0DE2-4CBC-9800-5681D6CDED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0961-460D-4E5C-B5CF-F6A9BD2326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4CB2-AC3F-48D6-B06E-BA11435AEE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A8B8-36C7-4C8F-A4E9-FC6116947E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цены товара (услуги). Эту зависимость можно представить в виде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4995-06B1-469D-9166-479921B46D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ривая спроса даёт ответ на два вопро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личных уровня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спрос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702F-2032-4E44-A33E-6EE46AF872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BB9F-5594-44CB-B6A6-0E8630BC4A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предлож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85F7-7DC8-4C88-B152-DC0C84B688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ечение кривых спроса и предложения даёт зна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ой ц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цена, при которой весь поставляемый на рынок товар покуп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25D3-DFA8-4E19-871A-36628526C4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ьности на рынке формируется две 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аксимальная цена, по которой покупатель согласен купить тов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предлож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инимальная цена, по которой производитель готов продать товар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ночная це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1DEB-0FA6-4BFB-B410-D6998C2985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0FD-28FE-4AB2-94D6-7613FBBF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35F-013E-4768-9F31-3F8782CC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31A-3826-4268-A075-A3F67D1C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71B-C34F-4389-9FE4-0E9A0A21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0ED7-E112-48A7-A95F-8817F87D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0C62-3DB3-4145-9BA0-B3A80BC8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C38F-8448-4212-B1F2-F37E9ADF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7A30-528B-4724-91F8-BEDD81EF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8B30-1D74-40F1-A9E1-D4558A6B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203F-D593-4AAA-AA12-459EBB19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F6C2-D411-4A34-878B-C886624E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878-280E-4D05-827E-2D3BB9D8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1EB1-8361-4376-B17A-E0EF430A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117D-F2EC-48F3-AFDC-89A1CF7A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1455-5B74-4D83-B841-73902F44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51DA-3286-4274-A02F-CBD98B1F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FF33-BF04-4AF3-A97F-90BE582B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CB34-8AF5-497E-96FD-16B350DF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607E7-17C6-4ABD-908D-6AD9ABD5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9D07-C851-479E-A74F-DE533C7C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41D8B-EBD4-4E19-9F76-01A03D0D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28DDC-8C5C-4E5B-A6F4-2317F629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6E2-9517-4B78-85D3-FA315DA2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1661A-C540-4A79-891B-1F14308A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0B025-D963-409F-BF5D-5DB1492E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36A71-BEB7-4E33-BEA2-EB6580A2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272BF-9986-4E74-B273-C7B4C83C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F5A2E-1EA1-4565-BB73-61DC09A6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6508-931D-4F58-A788-597E1F5C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32AB7-ED32-47C3-B755-3B3E3AAA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3A779-61D1-47CE-AC8A-31E1A766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E8D88-241C-4E72-9359-65E6FB52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32B27-A079-4A73-ACFC-D387AFBE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3A0-ED5F-44E3-B45A-554FFA3E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95710-F784-4BFA-A371-F402A904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E3E7A-F554-426C-979F-F9F6EDD7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A9617-FCB2-4767-83E3-EAD6CD77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3187E-9158-42AC-9FA4-56207BC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94430-79B7-48E6-8F71-5CB8EADE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31AB6-B608-4A89-9144-182249D7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2BC4A-3AC2-44C0-8C4F-40C1DB5E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31BBD-318C-4DAA-AF4D-2CA2EB74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9E7AF-9639-4813-AD31-F50C5851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3D8AD-7F86-44CA-9C03-24A30459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4F4-A55D-4FB3-8BC7-507A0A08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52DFD-FD5C-4BDB-A3E3-797BE205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97D9A-BD3A-4B26-A494-BDAD4D5E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5C0B0-DBCC-4A29-87FF-635EA5D5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C56F7-DB7C-4423-9A3A-418F18D3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90123-6B9E-490D-90EF-8456FE92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BE3B5-8D34-453E-8FAE-AA987688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58D82-7C81-4B60-AACC-3CDC6690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3446D-CFF3-442C-8E6E-3438479A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D2EC1-F6A3-4512-971D-BB57E791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41530-2208-44C0-A985-3247EF72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8F3-749F-4551-B3C2-DE2D936C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19DB3-B09C-4EAA-811E-0CBA12E2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C46-82A9-4EB6-B8F7-15A545E6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A58-A1DB-4309-929E-14AA3BB2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E42-8262-4E3F-8F48-D05C2C0A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4BE5-F62E-4559-8526-5A860A0D88A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4FB6-E99A-4A6D-9343-7D4165F359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E9EF-A5E5-4134-B28B-2D5383B41D33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CA78-99AD-4AB1-8F78-2800074D77A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6CC8-B05D-4562-9C60-7035963FD513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797B-6292-4E85-A1AA-66310C5C2B4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919E-48C9-4269-9125-402EE0F2471B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54F4-7658-4738-977C-1D0E8AB9A69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55D6-D923-4546-8D2D-A04B3EB9F078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34FA-9355-4924-B3AF-99985ECAD10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852640"/>
            <a:ext cx="7772400" cy="1470240"/>
          </a:xfrm>
          <a:prstGeom prst="rect">
            <a:avLst/>
          </a:prstGeom>
          <a:solidFill>
            <a:srgbClr val="fcd5b5">
              <a:alpha val="5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197000"/>
            <a:ext cx="4316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3888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47960" y="1599840"/>
            <a:ext cx="4244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392720" cy="39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130640" cy="432108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453708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99640" y="2276280"/>
            <a:ext cx="7488360" cy="24476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537080" cy="1143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628640"/>
          <a:ext cx="9144000" cy="3498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0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ое предло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ый 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ая 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 сам решает, что, как, сколько и для кого производ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 сам определяет, что, где, как и сколько покуп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ы определяются на рынке, зависят от спроса и пред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16282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еличина спрос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висит от цены товара (услуги). Эту зависимость можно представить в виде граф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16280" y="1557360"/>
            <a:ext cx="4527720" cy="43927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385200" y="6237360"/>
            <a:ext cx="84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м выше цена товара (услуги), тем ниже величина спроса и наоб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Кривая спроса даёт ответ на два вопроса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ва будет величина спроса при различных уровнях це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изменится величина спроса при изменении це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спроса: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484280"/>
            <a:ext cx="435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едлож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еличина предложе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716360" cy="42814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250920" y="59500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ычно, чем выше цена товара (услуги), тем большее количество его производители и продавцы готовы предложить на рын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предложения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4797360" cy="4248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716000" y="1341360"/>
            <a:ext cx="4427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Пересечение кривых спроса и предложения даёт значение </a:t>
            </a:r>
            <a:r>
              <a:rPr b="1" lang="ru-RU" sz="2300" spc="-1" strike="noStrike">
                <a:solidFill>
                  <a:srgbClr val="000000"/>
                </a:solidFill>
                <a:latin typeface="Constantia"/>
              </a:rPr>
              <a:t>равновесной цены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 - это цена, при которой весь поставляемый на рынок товар покупаетс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альности на рынке формируется две цен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спрос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аксимальная цена, по которой покупатель согласен купить товар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предложен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инимальная цена, по которой производитель готов продать товар).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ыночная цен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5:48:02Z</dcterms:created>
  <dc:creator>private</dc:creator>
  <dc:description/>
  <dc:language>en-US</dc:language>
  <cp:lastModifiedBy>LEGION</cp:lastModifiedBy>
  <dcterms:modified xsi:type="dcterms:W3CDTF">2014-11-07T13:17:30Z</dcterms:modified>
  <cp:revision>5</cp:revision>
  <dc:subject/>
  <dc:title>Слайд 1</dc:title>
</cp:coreProperties>
</file>